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FDD-C474-4B80-93B5-DA5E6776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476-B4C7-4F48-A6A6-371864CD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DEF-1DCC-4F4A-9D89-50DE45CA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3D3-40DC-4AA1-A4C3-33748E4D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50C-CADC-4737-BD17-47F1C1E8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9FF-D8D4-4353-9167-22AD0E54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0F1-1542-46E5-B5BC-1807A078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230-7CEF-4D39-A9C3-231E13FF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821-8F81-4E56-ABB3-98C680E1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880-A87B-47F4-BCEB-2CB75D76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41B-0C0C-4EFC-A159-DDDB7515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12F-6A3B-48C3-AB83-9E901989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0F1F-8806-4F89-9B8E-B54FA3EB0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2880" y="2133720"/>
            <a:ext cx="4191120" cy="32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11746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t principles, goals,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0000"/>
                </a:solidFill>
                <a:latin typeface="Verdana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, Test &amp;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505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715400">
            <a:off x="5486400" y="182880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7525800">
            <a:off x="5181480" y="541008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2204600">
            <a:off x="2742480" y="59428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4568600">
            <a:off x="761760" y="449532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8469800">
            <a:off x="685080" y="281952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206200">
            <a:off x="1752480" y="167616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304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idence-Based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5638680"/>
            <a:ext cx="2451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om: Kirk Hamilton; Malone et al, 2007; Zimring, 200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1295280" cy="9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1371600" cy="91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58" name=""/>
          <p:cNvGraphicFramePr/>
          <p:nvPr/>
        </p:nvGraphicFramePr>
        <p:xfrm>
          <a:off x="2438280" y="2895480"/>
          <a:ext cx="1371600" cy="108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895480"/>
                    <a:ext cx="137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105520" y="2590920"/>
            <a:ext cx="167616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590920"/>
            <a:ext cx="167652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algn="ctr">
              <a:tabLst>
                <a:tab algn="l" pos="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4191120"/>
            <a:ext cx="167652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281952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ormational leadership &amp; cultur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220968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3886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619760" y="3886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2895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-designed car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760" y="352116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ealing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6:07:15Z</dcterms:created>
  <dc:creator>Craig Zimring</dc:creator>
  <dc:description/>
  <dc:language>en-US</dc:language>
  <cp:lastModifiedBy>profile</cp:lastModifiedBy>
  <dcterms:modified xsi:type="dcterms:W3CDTF">2007-08-21T22:12:25Z</dcterms:modified>
  <cp:revision>3</cp:revision>
  <dc:subject/>
  <dc:title>Slide 1</dc:title>
</cp:coreProperties>
</file>